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8.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D97773-E4B7-4C2C-8A88-1794DEAB6D1F}"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B20FFA-C14D-4897-AF5F-1E205F7328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9BAAB4-1343-4824-94A2-219D99FD414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4440" y="685800"/>
            <a:ext cx="457056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lickr 4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aigslist 6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gg 156</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FC28CE-00DC-4BBF-9141-B3E661BE113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1144440" y="685800"/>
            <a:ext cx="457056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lobal ideagora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now live in a world where web sites like Innocentive, Nine-Sigma, and YourEncore connect companies to hundreds of thousands of scientists all over the globe to solve problems and create new solutions. The companies anonymously post R&amp;D problems on these “ideagoras” which scientists can then browse through. If a scientist submits a solution to one of the problems, she receives a cash prize ranging from $5,000 to $100,000. These web sites essentially are like an eBay for innovation. To companies who are sitting on difficult problems or unused patents, the entire world is now available to them as an R&amp;D departmen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ch category do you fall in?</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F3A51-0C2E-4A15-A6B9-3701910AFED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A3F9A6-F0E8-4E12-943A-C6D1EAC585C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5F6AF8-1436-454B-9300-39CE3C9D742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8F495E-3723-435A-B405-EC017FD237D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82" name="PlaceHolder 1"/>
          <p:cNvSpPr>
            <a:spLocks noGrp="1"/>
          </p:cNvSpPr>
          <p:nvPr>
            <p:ph type="sldImg"/>
          </p:nvPr>
        </p:nvSpPr>
        <p:spPr>
          <a:xfrm>
            <a:off x="1144440" y="685800"/>
            <a:ext cx="457056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0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ew Web is a very different thing. It’s a tool for bringing together the small contributions of millions of people and making them matter. [As these tools get put in the hands of ordinary people, we are seeing] an explosion of productivity and innovation. It’s just getting started, as millions of minds that would otherwise have drowned in obscurity get backhauled into the global intellectual econom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tory about community and collaboration on a scale never seen before. It’s about the many wresting the power from the few and helping one another for nothing and how that will not only change the world, but also change the way the world chang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t in schools, technology is still seen as an add-on, something that’s optional.</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E1C740-1E0C-4DC4-94AE-2AA729B9B09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85" name="PlaceHolder 1"/>
          <p:cNvSpPr>
            <a:spLocks noGrp="1"/>
          </p:cNvSpPr>
          <p:nvPr>
            <p:ph type="sldImg"/>
          </p:nvPr>
        </p:nvSpPr>
        <p:spPr>
          <a:xfrm>
            <a:off x="1144440" y="685800"/>
            <a:ext cx="457056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now live in a world where an upstart online encyclopedia created by thousands of volunteers can boast over 2 million entries in English alone, which is several orders of magnitude larger than the august and revered Encyclopedia Britannica. And, of course, Wikipedia corrects and updates itself almost, which means that it already recognizes that Pluto is no longer a planet, that Shimon Peres was elected President of Israel, and that the San Antonio Spurs won the 2007 NBA finals, while none of those facts is in the Britannica edition sitting in your local librar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ve you rea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ve you edited?</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rarian in New Jerse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kipedia is the #9 most-visited site on the Interne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you can see from the Alexa trend graph, most of that traffic growth has occurred in the past 3 yea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7% of all Internet users across the globe visited Wikipedia in the past 24 hou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st to give you an idea of how popular Wikipedia is, consider some of the other sites you probably visit regularly. eBay is #21, Amazon.com is #34, AOL is #46, and CNN.com is #107. NewYorkTimes.com is only #23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ADC257-B3CE-49B0-BCDC-4CAEB9B4AF6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144440" y="685800"/>
            <a:ext cx="457056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Xiv</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uman Genome Projec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enWetWa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uropean Bioinformatics Institu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l Open University Networ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now live in a world where online collaboration tools are allowing scholars and researchers all around the world to not only share and access each other’s work but even access and build off each other’s data. Initiatives like the Human Genome Project allow individuals and organizations from all over the globe to break down institutional and geographic walls and collaborate for the benefit of human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could go on but the point is clear. The world has changed and it’s changed rapidly. If we imagine the world ten years out, or 20 or 30, it appears quite clear that we have no idea what it will look like on many fro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societal change at an unprecedented pace, and it’s quite unsettling for many peop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6AE1EE-60F8-4F7F-B62A-C0D5B0E0EA2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BF7E7-766D-484A-889D-E9FB16AB2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CCBFB-D841-496F-AFD8-B726C4592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FB069-0E57-4B8D-A673-297C360D1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6E1AC-FB22-4018-8E83-BAFE09D90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2EB8C-A11A-4ED6-932A-BA36B9439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D1CD1-78F5-4CD7-999A-06D3E37F7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D4333-D41E-40EC-AA1B-814E7C569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37411-5B2B-4E2B-8033-857FFE1A7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FE530-1426-4946-BFC2-D4CD0192A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0C7BE-896C-4D42-874A-F16E171C3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4E657-CB2D-4813-9B4F-CE0B38948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9BD8A-736F-4B10-8666-EFF50B2D3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1DB06B-57FD-4010-A931-3F7E4FD5ACE9}"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837720"/>
            <a:ext cx="7772400" cy="1737000"/>
          </a:xfrm>
          <a:prstGeom prst="rect">
            <a:avLst/>
          </a:prstGeom>
          <a:noFill/>
          <a:ln w="0">
            <a:noFill/>
          </a:ln>
        </p:spPr>
        <p:txBody>
          <a:bodyPr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cc66"/>
                </a:solidFill>
                <a:latin typeface="Arial Black"/>
              </a:rPr>
              <a:t>ACT 2</a:t>
            </a:r>
            <a:endParaRPr b="0" lang="en-US" sz="15000" spc="-1" strike="noStrike">
              <a:solidFill>
                <a:srgbClr val="ffcc66"/>
              </a:solidFill>
              <a:latin typeface="Arial"/>
            </a:endParaRPr>
          </a:p>
        </p:txBody>
      </p:sp>
      <p:sp>
        <p:nvSpPr>
          <p:cNvPr id="49" name="PlaceHolder 2"/>
          <p:cNvSpPr>
            <a:spLocks noGrp="1"/>
          </p:cNvSpPr>
          <p:nvPr>
            <p:ph type="subTitle"/>
          </p:nvPr>
        </p:nvSpPr>
        <p:spPr>
          <a:xfrm>
            <a:off x="-360" y="3429000"/>
            <a:ext cx="8458200" cy="1752480"/>
          </a:xfrm>
          <a:prstGeom prst="rect">
            <a:avLst/>
          </a:prstGeom>
          <a:noFill/>
          <a:ln w="0">
            <a:noFill/>
          </a:ln>
        </p:spPr>
        <p:txBody>
          <a:bodyPr anchor="t">
            <a:noAutofit/>
          </a:bodyPr>
          <a:p>
            <a:pPr indent="0" algn="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98d3"/>
                </a:solidFill>
                <a:latin typeface="Arial Black"/>
              </a:rPr>
              <a:t>Information</a:t>
            </a:r>
            <a:br>
              <a:rPr sz="6000"/>
            </a:br>
            <a:r>
              <a:rPr b="0" lang="en-US" sz="6000" spc="-1" strike="noStrike">
                <a:solidFill>
                  <a:srgbClr val="1f98d3"/>
                </a:solidFill>
                <a:latin typeface="Arial Black"/>
              </a:rPr>
              <a:t>has</a:t>
            </a:r>
            <a:br>
              <a:rPr sz="6000"/>
            </a:br>
            <a:r>
              <a:rPr b="0" lang="en-US" sz="6000" spc="-1" strike="noStrike">
                <a:solidFill>
                  <a:srgbClr val="1f98d3"/>
                </a:solidFill>
                <a:latin typeface="Arial Black"/>
              </a:rPr>
              <a:t>change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Picture 9" descr="amazon"/>
          <p:cNvPicPr/>
          <p:nvPr/>
        </p:nvPicPr>
        <p:blipFill>
          <a:blip r:embed="rId1"/>
          <a:stretch/>
        </p:blipFill>
        <p:spPr>
          <a:xfrm>
            <a:off x="5410080" y="2362320"/>
            <a:ext cx="3353040" cy="1490400"/>
          </a:xfrm>
          <a:prstGeom prst="rect">
            <a:avLst/>
          </a:prstGeom>
          <a:ln w="0">
            <a:noFill/>
          </a:ln>
        </p:spPr>
      </p:pic>
      <p:pic>
        <p:nvPicPr>
          <p:cNvPr id="61" name="Picture 10" descr="ebay"/>
          <p:cNvPicPr/>
          <p:nvPr/>
        </p:nvPicPr>
        <p:blipFill>
          <a:blip r:embed="rId2"/>
          <a:stretch/>
        </p:blipFill>
        <p:spPr>
          <a:xfrm>
            <a:off x="304920" y="914400"/>
            <a:ext cx="2133360" cy="1589040"/>
          </a:xfrm>
          <a:prstGeom prst="rect">
            <a:avLst/>
          </a:prstGeom>
          <a:ln w="0">
            <a:noFill/>
          </a:ln>
        </p:spPr>
      </p:pic>
      <p:pic>
        <p:nvPicPr>
          <p:cNvPr id="62" name="Picture 12" descr="tripadvisor"/>
          <p:cNvPicPr/>
          <p:nvPr/>
        </p:nvPicPr>
        <p:blipFill>
          <a:blip r:embed="rId3"/>
          <a:stretch/>
        </p:blipFill>
        <p:spPr>
          <a:xfrm>
            <a:off x="762120" y="3352680"/>
            <a:ext cx="4038480" cy="1096920"/>
          </a:xfrm>
          <a:prstGeom prst="rect">
            <a:avLst/>
          </a:prstGeom>
          <a:ln w="0">
            <a:noFill/>
          </a:ln>
        </p:spPr>
      </p:pic>
      <p:pic>
        <p:nvPicPr>
          <p:cNvPr id="63" name="Picture 13" descr="flickr"/>
          <p:cNvPicPr/>
          <p:nvPr/>
        </p:nvPicPr>
        <p:blipFill>
          <a:blip r:embed="rId4"/>
          <a:stretch/>
        </p:blipFill>
        <p:spPr>
          <a:xfrm>
            <a:off x="6172200" y="4419720"/>
            <a:ext cx="2387520" cy="1971720"/>
          </a:xfrm>
          <a:prstGeom prst="rect">
            <a:avLst/>
          </a:prstGeom>
          <a:ln w="0">
            <a:noFill/>
          </a:ln>
        </p:spPr>
      </p:pic>
      <p:pic>
        <p:nvPicPr>
          <p:cNvPr id="64" name="Picture 5" descr="craigslist-logo.jpg"/>
          <p:cNvPicPr/>
          <p:nvPr/>
        </p:nvPicPr>
        <p:blipFill>
          <a:blip r:embed="rId5"/>
          <a:srcRect l="0" t="25346" r="0" b="26682"/>
          <a:stretch/>
        </p:blipFill>
        <p:spPr>
          <a:xfrm>
            <a:off x="3657600" y="5486400"/>
            <a:ext cx="1905120" cy="914400"/>
          </a:xfrm>
          <a:prstGeom prst="rect">
            <a:avLst/>
          </a:prstGeom>
          <a:ln w="0">
            <a:noFill/>
          </a:ln>
        </p:spPr>
      </p:pic>
      <p:pic>
        <p:nvPicPr>
          <p:cNvPr id="65" name="Picture 6" descr="digg_logo.jpg"/>
          <p:cNvPicPr/>
          <p:nvPr/>
        </p:nvPicPr>
        <p:blipFill>
          <a:blip r:embed="rId6"/>
          <a:stretch/>
        </p:blipFill>
        <p:spPr>
          <a:xfrm>
            <a:off x="5791320" y="685800"/>
            <a:ext cx="1904760" cy="1171440"/>
          </a:xfrm>
          <a:prstGeom prst="rect">
            <a:avLst/>
          </a:prstGeom>
          <a:ln w="0">
            <a:noFill/>
          </a:ln>
        </p:spPr>
      </p:pic>
      <p:pic>
        <p:nvPicPr>
          <p:cNvPr id="66" name="Picture 7" descr="secondlifelogo.jpg"/>
          <p:cNvPicPr/>
          <p:nvPr/>
        </p:nvPicPr>
        <p:blipFill>
          <a:blip r:embed="rId7"/>
          <a:stretch/>
        </p:blipFill>
        <p:spPr>
          <a:xfrm>
            <a:off x="2895480" y="457200"/>
            <a:ext cx="2190960" cy="2190600"/>
          </a:xfrm>
          <a:prstGeom prst="rect">
            <a:avLst/>
          </a:prstGeom>
          <a:ln w="0">
            <a:noFill/>
          </a:ln>
        </p:spPr>
      </p:pic>
      <p:pic>
        <p:nvPicPr>
          <p:cNvPr id="67" name="Picture 9" descr="150px-RottenTomatoesLogo"/>
          <p:cNvPicPr/>
          <p:nvPr/>
        </p:nvPicPr>
        <p:blipFill>
          <a:blip r:embed="rId8"/>
          <a:stretch/>
        </p:blipFill>
        <p:spPr>
          <a:xfrm>
            <a:off x="533520" y="5105520"/>
            <a:ext cx="1904760" cy="60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Picture 5" descr="innocentive.jpg"/>
          <p:cNvPicPr/>
          <p:nvPr/>
        </p:nvPicPr>
        <p:blipFill>
          <a:blip r:embed="rId1"/>
          <a:stretch/>
        </p:blipFill>
        <p:spPr>
          <a:xfrm>
            <a:off x="0" y="1371600"/>
            <a:ext cx="9144000" cy="46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Picture 2" descr=""/>
          <p:cNvPicPr/>
          <p:nvPr/>
        </p:nvPicPr>
        <p:blipFill>
          <a:blip r:embed="rId1"/>
          <a:stretch/>
        </p:blipFill>
        <p:spPr>
          <a:xfrm>
            <a:off x="-914400" y="0"/>
            <a:ext cx="109728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52" name="Picture 4" descr="gutenberg_bible"/>
          <p:cNvPicPr/>
          <p:nvPr/>
        </p:nvPicPr>
        <p:blipFill>
          <a:blip r:embed="rId1"/>
          <a:stretch/>
        </p:blipFill>
        <p:spPr>
          <a:xfrm>
            <a:off x="2438280" y="1417680"/>
            <a:ext cx="4362480" cy="4389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Picture 3" descr="2724002777_f027058823_o.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Picture 2" descr="149268694_abdcbc43b4_o.jpg"/>
          <p:cNvPicPr/>
          <p:nvPr/>
        </p:nvPicPr>
        <p:blipFill>
          <a:blip r:embed="rId1"/>
          <a:stretch/>
        </p:blipFill>
        <p:spPr>
          <a:xfrm>
            <a:off x="0" y="-22860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Picture 2" descr="2006 - Time - Cover Person of the Year"/>
          <p:cNvPicPr/>
          <p:nvPr/>
        </p:nvPicPr>
        <p:blipFill>
          <a:blip r:embed="rId1"/>
          <a:stretch/>
        </p:blipFill>
        <p:spPr>
          <a:xfrm>
            <a:off x="2341440" y="461880"/>
            <a:ext cx="4461120" cy="59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Picture 3" descr="Wikipedia-logo"/>
          <p:cNvPicPr/>
          <p:nvPr/>
        </p:nvPicPr>
        <p:blipFill>
          <a:blip r:embed="rId1"/>
          <a:stretch/>
        </p:blipFill>
        <p:spPr>
          <a:xfrm>
            <a:off x="-371520" y="0"/>
            <a:ext cx="988704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4" descr="arxiv.jpg"/>
          <p:cNvPicPr/>
          <p:nvPr/>
        </p:nvPicPr>
        <p:blipFill>
          <a:blip r:embed="rId1"/>
          <a:stretch/>
        </p:blipFill>
        <p:spPr>
          <a:xfrm>
            <a:off x="0" y="1523880"/>
            <a:ext cx="9144000" cy="4640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Picture 3" descr="SSRN.jpg"/>
          <p:cNvPicPr/>
          <p:nvPr/>
        </p:nvPicPr>
        <p:blipFill>
          <a:blip r:embed="rId1"/>
          <a:stretch/>
        </p:blipFill>
        <p:spPr>
          <a:xfrm>
            <a:off x="0" y="914400"/>
            <a:ext cx="9144000" cy="544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13:22:39Z</dcterms:created>
  <dc:creator>CTLT ISU</dc:creator>
  <dc:description/>
  <dc:language>en-US</dc:language>
  <cp:lastModifiedBy>CTLT ISU</cp:lastModifiedBy>
  <dcterms:modified xsi:type="dcterms:W3CDTF">2009-04-08T21:35:46Z</dcterms:modified>
  <cp:revision>4</cp:revision>
  <dc:subject/>
  <dc:title>ACT 2</dc:title>
</cp:coreProperties>
</file>